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CF6E70-5AE9-4277-959C-1454899BD37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9C7134-7FE2-4400-AE70-7401DE095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9FAF5B-C61A-4437-B738-FDCE03F40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7AB463-9ADD-4D9B-A23F-EAD790F8573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BD23FE-DA4B-4F91-9FA9-218CBC9E4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E8F8B2-D4E8-4D81-91CF-B997E4E46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74B22A-50B5-426B-B1ED-B03BFB5C5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92C6EB-B133-4378-BCEE-797702FEE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049444-CBA3-45D2-947E-0B6C2820C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E3563C-F77A-4055-9DD2-37945F466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AF7CA4-5EB8-4771-9326-C86EB5837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083589-A33E-4D44-810D-5B96B0101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4B564-AD15-494E-9B98-37A977FC85F1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三十九章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临床营养支持用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能全力（</a:t>
            </a:r>
            <a:r>
              <a:rPr b="1" lang="fr-FR" sz="2800" spc="-1" strike="noStrike">
                <a:solidFill>
                  <a:srgbClr val="8ac8de"/>
                </a:solidFill>
                <a:latin typeface="Verdana"/>
                <a:ea typeface="宋体"/>
              </a:rPr>
              <a:t>nutrison fibr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临床应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适用于有胃肠道功能或部分胃肠道功能，而不能或不愿正常进食的进行肠内营养支持的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能全力（</a:t>
            </a:r>
            <a:r>
              <a:rPr b="1" lang="fr-FR" sz="2800" spc="-1" strike="noStrike">
                <a:solidFill>
                  <a:srgbClr val="8ac8de"/>
                </a:solidFill>
                <a:latin typeface="Verdana"/>
                <a:ea typeface="宋体"/>
              </a:rPr>
              <a:t>nutrison fibr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用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口服或管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初期最好从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000kcal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开始，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~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天后逐渐增加至需要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室温下使用，打开前需先摇匀，若患者胃肠道能够耐受，则不需要稀释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能全力（</a:t>
            </a:r>
            <a:r>
              <a:rPr b="1" lang="fr-FR" sz="2800" spc="-1" strike="noStrike">
                <a:solidFill>
                  <a:srgbClr val="8ac8de"/>
                </a:solidFill>
                <a:latin typeface="Verdana"/>
                <a:ea typeface="宋体"/>
              </a:rPr>
              <a:t>nutrison fibr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良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少数出现胃肠道不适，减慢管饲速度即可缓解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禁忌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胃肠道功能衰竭、完全性小肠梗阻、严重的腹腔内感染者禁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本品不适用于需要低渣饮食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岁以内的婴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可作为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~5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岁孩子的单一营养来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严禁静脉内使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能全力（</a:t>
            </a:r>
            <a:r>
              <a:rPr b="1" lang="fr-FR" sz="2800" spc="-1" strike="noStrike">
                <a:solidFill>
                  <a:srgbClr val="8ac8de"/>
                </a:solidFill>
                <a:latin typeface="Verdana"/>
                <a:ea typeface="宋体"/>
              </a:rPr>
              <a:t>nutrison fibr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注意输注量和速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输入的温度应不宜过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在使用过程中，注意液体平衡，保证足够的液体摄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注意观察患者肠鸣音、排便的次数和性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避光，封闭，室温下保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开启后放置于冰箱内。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4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小时内用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能全素（</a:t>
            </a:r>
            <a:r>
              <a:rPr b="1" lang="fr-FR" sz="2800" spc="-1" strike="noStrike">
                <a:solidFill>
                  <a:srgbClr val="8ac8de"/>
                </a:solidFill>
                <a:latin typeface="Verdana"/>
                <a:ea typeface="宋体"/>
              </a:rPr>
              <a:t>nutriso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整蛋白型肠内营养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适用于有胃肠道功能或部分胃肠道功能患者的肠内全营养支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主要适应证是厌食及其相关的疾病、机械性胃肠道功能紊乱、危重疾病、营养不良患者的手术前喂养、胃肠道准备，可用于糖尿病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直接饮用或饲喂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爱伦多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elenta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氨基酸型肠内营养剂。以氨基酸为氮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口服经肠黏膜可直接吸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 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能促进肠黏膜再生，阻止细菌和毒素移位，且可改善结肠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DNA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水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临床应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用于手术前后患者的营养支持，消化道功能不全以及短肠患者，肠道炎性患者，也可用于烧伤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爱伦多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elenta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用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经鼻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空肠管或鼻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胃管灌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可依据年龄、体重或病情适当调整剂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爱伦多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elenta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良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恶心、腹胀、腹痛、腹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极少有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AST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ALT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ALP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、尿素氮及血糖上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禁忌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重症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糖尿病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、大量激素后糖代谢异常者禁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适用于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岁以内或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~5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岁孩子的单一营养来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严禁静脉内使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小肠大面积切除后短肠综合征、肾衰未透析者、孕妇慎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百普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pepti-2000 variant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以短肽、氨基酸为基础的低脂肪配方的短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易消化、吸收完全、生物利用度高，且渗透压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适用于胃肠道消化吸收不良患者的肠内营养支持，主要适应证是代谢性肠道功能紊乱、危重疾病、营养不良患者的手术前喂养、胃肠道准备等，可用于糖尿病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冲调后经管道喂养或直接饮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胃肠道功能衰竭；完全性肠梗阻；严重的腹腔内感染患者禁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瑞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fresubi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均衡、整蛋白型、含中链脂肪酸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无膳食纤维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临床应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适用于无严重消化或吸收功能障碍、但有营养摄入障碍的患者，或用于术前或诊断前肠道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主要应用于成年患者以及禁用膳食纤维的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掌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安素、能全力、瑞素、脂肪乳、复方氨基酸注射液的药理作用、临床应用、不良反应和药疗监护须知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熟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能全素、百普素、瑞代、复方支链氨基酸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H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注射液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 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的作用特点、用法；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了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爱伦多、复方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α-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酮酸的药理作用、临床应用、不良反应；复合氨基酸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9R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注射液的作用特点、用法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瑞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fresubi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用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通过管饲或口服使用，应按照患者体重和营养状况计算每日用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良反应及禁忌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给药速度太快或过量时，可能发生恶心、呕吐或腹泻等胃肠道副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所有不适于用肠内营养的疾病，及有严重消化和吸收功能障碍的疾病禁用本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瑞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fresubi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应监测液体平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妊娠期前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个月的孕妇和可能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怀孕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的育龄妇女使用本品时，应注意每日维生素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A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的用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使用香豆素类抗凝剂者应注意药物相互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给药过量或速度过快，会发生胃肠道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5℃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以下，密闭保存，不得冰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使用前摇匀，有效期内使用。开启后最多可在冰箱内保存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4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小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瑞代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fresubin diabetes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专供糖尿病患者使用的肠内全营养制剂，含膳食纤维，不含牛奶蛋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适用于糖尿病患者进行肠内营养支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严重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肝功能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全、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肾功能不全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者禁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对本品所含物质有先天性代谢障碍的患者禁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对果糖有先天性不耐受者禁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孕妇慎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给药速度太快或过量时，可能发生恶心、呕吐或腹泻等胃肠道副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复方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α-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酮酸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α-keto acid compound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补充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α-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酮酸和必需氨基酸，减少氨基氮的摄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改善氨基酸和蛋白代谢紊乱，促进蛋白合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酮基或羟氨基酸本身不含有氨基，其利用非必需氨基酸的氮转化为氨基酸，因此可减少尿素合成，尿毒症毒性产物的蓄积也减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酮基或羟氨基酸不引起残存肾单位的高滤过，并可改善肾性高磷血症和继发性甲状旁腺功能亢进，改善肾性骨营养不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2400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复方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α-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酮酸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α-keto acid compound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临床应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配合低蛋白饮食，可减少氮的摄入，同时可避免因蛋白摄入不足及营养不良引起的后果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预防和治疗慢性肾功能不全而造成蛋白质代谢失调引起的损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用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口服，用餐期间整片吞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良反应及禁忌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可发生高钙血症。高钙血症和氨基酸代谢紊乱禁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复方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α-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酮酸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α-keto acid compound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应定期监测血钙水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遗传性苯丙酮尿患者使用本品时，须注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如同时使用氢氧化铝药物，需减少氢氧化铝的服用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注意血磷水平的下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复方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α-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酮酸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α-keto acid compound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为了不影响药物吸收，与钙结合形成难溶性复合物的药物不应与开同同时服用，间隔时间至少为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小时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血钙升高可增加强心甙药物的敏感性，也增加发生心律失常的风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外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脂肪乳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fat emulsio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理作用和临床应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静脉用脂肪制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含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0%~20%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乳化黄豆油、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.2%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卵磷脂和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.5%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甘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主要用于提供热量和必需脂肪酸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用于手术前后、肿瘤及大面积烧伤需要大量热能而进食有困难者，肾功能不全需要限制蛋白质的摄入、但又必须供给足够热能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外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脂肪乳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fat emulsio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用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Arial"/>
                <a:ea typeface="宋体"/>
              </a:rPr>
              <a:t>静脉滴注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Arial"/>
                <a:ea typeface="宋体"/>
              </a:rPr>
              <a:t>成人每日</a:t>
            </a:r>
            <a:r>
              <a:rPr b="0" lang="en-US" sz="2600" spc="-1" strike="noStrike">
                <a:solidFill>
                  <a:srgbClr val="046ca6"/>
                </a:solidFill>
                <a:latin typeface="Arial"/>
                <a:ea typeface="宋体"/>
              </a:rPr>
              <a:t>0.5~2g/kg</a:t>
            </a:r>
            <a:r>
              <a:rPr b="0" lang="zh-CN" sz="2600" spc="-1" strike="noStrike">
                <a:solidFill>
                  <a:srgbClr val="046ca6"/>
                </a:solidFill>
                <a:latin typeface="Arial"/>
                <a:ea typeface="宋体"/>
              </a:rPr>
              <a:t>，最大剂量每日</a:t>
            </a:r>
            <a:r>
              <a:rPr b="0" lang="en-US" sz="2600" spc="-1" strike="noStrike">
                <a:solidFill>
                  <a:srgbClr val="046ca6"/>
                </a:solidFill>
                <a:latin typeface="Arial"/>
                <a:ea typeface="宋体"/>
              </a:rPr>
              <a:t>3g/kg</a:t>
            </a:r>
            <a:r>
              <a:rPr b="0" lang="zh-CN" sz="2600" spc="-1" strike="noStrike">
                <a:solidFill>
                  <a:srgbClr val="046ca6"/>
                </a:solidFill>
                <a:latin typeface="Arial"/>
                <a:ea typeface="宋体"/>
              </a:rPr>
              <a:t>，滴速第一日每</a:t>
            </a:r>
            <a:r>
              <a:rPr b="0" lang="en-US" sz="2600" spc="-1" strike="noStrike">
                <a:solidFill>
                  <a:srgbClr val="046ca6"/>
                </a:solidFill>
                <a:latin typeface="Arial"/>
                <a:ea typeface="宋体"/>
              </a:rPr>
              <a:t>500ml</a:t>
            </a:r>
            <a:r>
              <a:rPr b="0" lang="zh-CN" sz="2600" spc="-1" strike="noStrike">
                <a:solidFill>
                  <a:srgbClr val="046ca6"/>
                </a:solidFill>
                <a:latin typeface="Arial"/>
                <a:ea typeface="宋体"/>
              </a:rPr>
              <a:t>不得少于</a:t>
            </a:r>
            <a:r>
              <a:rPr b="0" lang="en-US" sz="2600" spc="-1" strike="noStrike">
                <a:solidFill>
                  <a:srgbClr val="046ca6"/>
                </a:solidFill>
                <a:latin typeface="Arial"/>
                <a:ea typeface="宋体"/>
              </a:rPr>
              <a:t>4~5</a:t>
            </a:r>
            <a:r>
              <a:rPr b="0" lang="zh-CN" sz="2600" spc="-1" strike="noStrike">
                <a:solidFill>
                  <a:srgbClr val="046ca6"/>
                </a:solidFill>
                <a:latin typeface="Arial"/>
                <a:ea typeface="宋体"/>
              </a:rPr>
              <a:t>小时，以后可按每分钟</a:t>
            </a:r>
            <a:r>
              <a:rPr b="0" lang="en-US" sz="2600" spc="-1" strike="noStrike">
                <a:solidFill>
                  <a:srgbClr val="046ca6"/>
                </a:solidFill>
                <a:latin typeface="Arial"/>
                <a:ea typeface="宋体"/>
              </a:rPr>
              <a:t>40~60</a:t>
            </a:r>
            <a:r>
              <a:rPr b="0" lang="zh-CN" sz="2600" spc="-1" strike="noStrike">
                <a:solidFill>
                  <a:srgbClr val="046ca6"/>
                </a:solidFill>
                <a:latin typeface="Arial"/>
                <a:ea typeface="宋体"/>
              </a:rPr>
              <a:t>滴速度滴注，但不宜少于</a:t>
            </a:r>
            <a:r>
              <a:rPr b="0" lang="en-US" sz="26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600" spc="-1" strike="noStrike">
                <a:solidFill>
                  <a:srgbClr val="046ca6"/>
                </a:solidFill>
                <a:latin typeface="Arial"/>
                <a:ea typeface="宋体"/>
              </a:rPr>
              <a:t>小时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Arial"/>
                <a:ea typeface="宋体"/>
              </a:rPr>
              <a:t>小儿首日</a:t>
            </a:r>
            <a:r>
              <a:rPr b="0" lang="en-US" sz="2600" spc="-1" strike="noStrike">
                <a:solidFill>
                  <a:srgbClr val="046ca6"/>
                </a:solidFill>
                <a:latin typeface="Arial"/>
                <a:ea typeface="宋体"/>
              </a:rPr>
              <a:t>1g/kg</a:t>
            </a:r>
            <a:r>
              <a:rPr b="0" lang="zh-CN" sz="2600" spc="-1" strike="noStrike">
                <a:solidFill>
                  <a:srgbClr val="046ca6"/>
                </a:solidFill>
                <a:latin typeface="Arial"/>
                <a:ea typeface="宋体"/>
              </a:rPr>
              <a:t>，以后每日增加</a:t>
            </a:r>
            <a:r>
              <a:rPr b="0" lang="en-US" sz="2600" spc="-1" strike="noStrike">
                <a:solidFill>
                  <a:srgbClr val="046ca6"/>
                </a:solidFill>
                <a:latin typeface="Arial"/>
                <a:ea typeface="宋体"/>
              </a:rPr>
              <a:t>0.5g/kg</a:t>
            </a:r>
            <a:r>
              <a:rPr b="0" lang="zh-CN" sz="2600" spc="-1" strike="noStrike">
                <a:solidFill>
                  <a:srgbClr val="046ca6"/>
                </a:solidFill>
                <a:latin typeface="Arial"/>
                <a:ea typeface="宋体"/>
              </a:rPr>
              <a:t>，滴速每小时</a:t>
            </a:r>
            <a:r>
              <a:rPr b="0" lang="en-US" sz="2600" spc="-1" strike="noStrike">
                <a:solidFill>
                  <a:srgbClr val="046ca6"/>
                </a:solidFill>
                <a:latin typeface="Arial"/>
                <a:ea typeface="宋体"/>
              </a:rPr>
              <a:t>&lt;170mg/kg</a:t>
            </a:r>
            <a:r>
              <a:rPr b="0" lang="zh-CN" sz="2600" spc="-1" strike="noStrike">
                <a:solidFill>
                  <a:srgbClr val="046ca6"/>
                </a:solidFill>
                <a:latin typeface="Arial"/>
                <a:ea typeface="宋体"/>
              </a:rPr>
              <a:t>，每日剂量</a:t>
            </a:r>
            <a:r>
              <a:rPr b="0" lang="en-US" sz="2600" spc="-1" strike="noStrike">
                <a:solidFill>
                  <a:srgbClr val="046ca6"/>
                </a:solidFill>
                <a:latin typeface="Arial"/>
                <a:ea typeface="宋体"/>
              </a:rPr>
              <a:t>&lt;4g/kg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外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脂肪乳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fat emulsio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良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发热、恶心、呕吐、腹痛、呼吸急促等，肝功能损害、溶血、凝血障碍、血小板减少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若输注速度过快，超过脂肪吸收的最大速度（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~3g/kg/h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，将发生胸痛、呼吸困难，发绀、恶心、呕吐、低血压或高血压、发冷、发热、潮红、荨麻疹、腹泻、浮肿、嗅觉异常、口腔油腻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输液局部可出现静脉炎、血管痛及出血倾向、静脉血栓形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案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男性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7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岁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个月前开始出现进食哽噎感，进食干硬食物难以下咽，近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周症状较前明显加重，进半流食也出现吞咽困难。近半年体重减轻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0kg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体检：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T37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℃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P8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次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/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分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R2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次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/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分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 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BP130/75mmHg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身高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72cm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体重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4kg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双下肢可见凹陷性水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外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脂肪乳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fat emulsio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禁忌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肝功能严重不全、休克及有严重代谢紊乱，尤其脂肪代谢障碍者忌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肾功能不全、脓毒血症、未控制的糖尿病者、胰腺炎、严重感染、血小板减少、肺部疾患及新生儿黄疸明显者慎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外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脂肪乳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fat emulsio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用药前检查血常规、凝血时间、肝功能、血脂，用药期间，定期复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成人使用本品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周以上必须做脂肪廓清试验。如血浆有乳光或乳色出现，应暂停使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可直接加入脂溶性维生素，水溶性维生素需先溶解于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0ml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注射用水或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5%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葡萄糖溶液中，然后加入本品内，可与氨基酸同用，不得与电解质、其他药物及营养素混合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外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脂肪乳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fat emulsio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避光、密闭、阴凉干燥处贮存，不得冰冻。一经打开，立即用完。温度过高或过低均可导致乳剂破坏。若单独输注，最常悬挂时间不超过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2h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。若发现变色或有沉淀、油滴漂浮，不应使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外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复方氨基酸注射液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ompound amino acid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理作用和临床应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补充人体必需的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8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种氨基酸和一些非必需氨基酸，以维持正氮平衡和特殊治疗的需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用于低蛋白血症、营养不良、手术前后的氨基酸补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用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注静脉滴注，一般每日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50~1000ml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或成人按每日每公斤体重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~1.5g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氨基酸）；小儿按每日每公斤体重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~3g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氨基酸）计算；滴注速度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.5~3.5ml/min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40~60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滴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分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外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复方氨基酸注射液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ompound amino acid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良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意识障碍、电解质异常、微量元素失调、氨基酸转移酶升高、高血氨症、恶心、呕吐、面部潮红、心悸、胸闷、头痛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大量快速滴注可导致胃酸增加、加重溃疡病，甚至造成酸中毒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局部可出现皮疹、过敏、红斑、血管痛、血栓性静脉炎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输注过快或给肝、肾功能不全者使用时，可能导致高氮血症和血尿素氮升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外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复方氨基酸注射液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ompound amino acid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禁忌证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禁用于对溶液中所含成分过敏者、严重尚未纠正的水电失衡或酸碱失衡、血容量减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可用于肝性昏迷者、严重肝功能障碍、高氮质血症、氨基酸代谢异常者、遗传性果糖不耐症者、严重尿毒症、中毒酸中毒、水肿、高钾血症、充血性心力衰竭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外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复方氨基酸注射液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ompound amino acid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外周静脉输注时，应缓慢滴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次用完，不可贮存再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长期使用，注意定期监测血清电解质、血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pH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、肝功能。注意水平衡，防止血容量不足或水过多增加心脏负荷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液遇冷可能出现结晶，可加热至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60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℃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，缓慢摇动使结晶完全溶解后使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可与两性霉素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、氨苄西林、羧苄西林、庆大霉素、甲硝唑、四环素等药物配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外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复方支链氨基酸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H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注射液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 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Branched Chain Amino Acid 3H Injectio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支链氨基酸组成，其功能有：代谢生成丙氨酸及酮体，为机体提供能源；促进胰岛素的分泌；胆固醇合成的前体；供给合成蛋白质的必需氨基酸原料；促进蛋白质的合成；抑制蛋白质的分解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适用于：急性、亚急性、慢性重症肝炎以及肝硬化、慢性活动性肝炎等；各种原因引起的肝性脑病（肝昏迷）；肝胆外科手术前、后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外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复方支链氨基酸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H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注射液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 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Branched Chain Amino Acid 3H Injectio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使用前应检查药液，如有浑浊，包装破裂等切勿使用。输注后的剩余药液切勿保存再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高度食管静脉曲张时，要注意输注速度和用量，以免静脉压增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高度腹水、胸水时，应注意水的平衡，避免输入量过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输注速度宜慢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遇冷易析出结晶，可微温溶解后再使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严重肾功能不全者、氨基酸代谢障碍者禁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外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复合氨基酸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9R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注射液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amino acid 9R compound injectio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主要用于非终末期慢性肾衰、低蛋白饮食不能纠正的负氮平衡，也可用于急性肾衰非高分解状态以及各种透析患者营养不良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除可与葡萄糖注射液混合滴注外，不宜与其他药物混合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静滴要慢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应监测血糖、血清蛋白、肾功能、肝功能、电解质、二氧化碳结合力、血钙、血磷等变化，必要时检查血镁和血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案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实验室检查：血清白蛋白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0g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血清转铁蛋白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3g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血清前清蛋白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mg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淋巴细胞总数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×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0</a:t>
            </a:r>
            <a:r>
              <a:rPr b="1" lang="en-US" sz="2800" spc="-1" strike="noStrike" baseline="30000">
                <a:solidFill>
                  <a:srgbClr val="8ac8de"/>
                </a:solidFill>
                <a:latin typeface="Verdana"/>
                <a:ea typeface="宋体"/>
              </a:rPr>
              <a:t>9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医嘱给予口服安素每日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000m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问题：①安素的药理作用是什么？②在使用安素过程中应注意哪些问题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外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复合氨基酸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9R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注射液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amino acid 9R compound injectio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糖尿病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肾病者常需适当应用胰岛素，将血糖控制在较满意的水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非糖尿病尿毒症患者如输注高渗葡萄糖，亦应同时应用小剂量胰岛素，维生素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B6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、苯丙酸诺龙等也可适当应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也可常规应用碳酸氢钠（每日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6g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，但需注意防止水、钠潴留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尿毒症性心包炎、尿毒症性脑病、无尿、高钾血症等患者，应首先用透析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习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可用于消化功能不全患者的肠内营养制剂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A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安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B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能全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C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能全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D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爱伦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E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瑞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习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男性，糖尿病患者，肠道功能基本正常，拟行肠内营养支持，适宜的肠内营养制剂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A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安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B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能全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C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能全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D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瑞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E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瑞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安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ensur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本品为均衡的全肠道整蛋白型营养制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热量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氮的比值为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77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，具有节约蛋白质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增加肾负担，胆固醇低，不含乳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临床应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用于无法进固体饮食的外伤、慢性病、年老体弱，产妇、术前后及某些必须限制饮食的患者等补充营养，尤其适合于乳糖不耐受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安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ensur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用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口服或鼻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取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量匙（约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55g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本品，加入开水溶解稀释至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50m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，按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ml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标准稀释液提供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kcal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热量计算决定患者每日用量；或按体重，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5~7g/kg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管饲者先给半量，用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0%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的浓度，经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d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适应期逐渐增至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0%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浓度和全量，全日量管饲持续滴注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8h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0h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，速度每分钟为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.6ml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4.2m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口服按全日量分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8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0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次口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安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ensur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良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少数出现轻度腹胀，减慢管饲速度即可缓解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禁忌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高位高流量肠瘘、短肠综合征及肠衰竭、肠梗阻者禁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岁以下儿童不宜使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严禁注射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安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ensur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注意输注量和速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输入的温度应保持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34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36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注意观察患者肠鸣音、排便的次数和性质，便频、便稀均是不耐受管喂饮食的表现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避免污染、变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避光，封闭，阴凉干燥处保存，不宜放置于冰箱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开罐后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星期内用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能全力（</a:t>
            </a:r>
            <a:r>
              <a:rPr b="1" lang="fr-FR" sz="2800" spc="-1" strike="noStrike">
                <a:solidFill>
                  <a:srgbClr val="8ac8de"/>
                </a:solidFill>
                <a:latin typeface="Verdana"/>
                <a:ea typeface="宋体"/>
              </a:rPr>
              <a:t>nutrison fibr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整蛋白和纤维型肠内高营养多聚合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含乳糖和蔗糖，可用于乳糖不耐受患者以及糖尿病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营养素全面。易于消化和吸收，生物利用度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含有纤维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增加了短链脂肪酸，刺激结肠中水和电解质的重吸收，可以防止腹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4T08:14:33Z</dcterms:modified>
  <cp:revision>82</cp:revision>
  <dc:subject/>
  <dc:title>内科护理学</dc:title>
</cp:coreProperties>
</file>